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3D6D-992B-4C10-A2D8-6C456489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EDB-29F1-4C6F-A407-2BFFEBBB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BC4C-EEC7-4A4D-8327-5B3E2C5F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C2E-3FB5-44FD-8F2C-BF1815C25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DE2-7D42-4C2C-9D29-D5C8BDCB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DE4-1679-44E9-A30E-154E796D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BC8-4890-4235-9CEC-91EF3253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AD3-FF1E-44CD-BF72-745EF06E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C87-3799-444B-A58A-09AC4A5D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02E-0664-4313-8D99-7DC643E8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3068-E023-47D0-8455-F89EC4FA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B97-E6A8-43F6-9263-B8D8B065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891F-745C-4F83-AED7-403711815FA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 Goats action pl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ly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Please indic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ur team name 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if applicab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42908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.g. Organize IP meeting (B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w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/08/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ion mater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.g. Develop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gender checklist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oject tea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zi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/09/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er reviewer, layouts, distrib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if applicab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442908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if applicab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42908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ience (if applicabl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429080"/>
        </p:xfrm>
        <a:graphic>
          <a:graphicData uri="http://schemas.openxmlformats.org/drawingml/2006/table">
            <a:tbl>
              <a:tblPr/>
              <a:tblGrid>
                <a:gridCol w="3106800"/>
                <a:gridCol w="1079280"/>
                <a:gridCol w="936720"/>
                <a:gridCol w="3106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3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10:11:57Z</dcterms:created>
  <dc:creator>eleborgne</dc:creator>
  <dc:description/>
  <dc:language>en-US</dc:language>
  <cp:lastModifiedBy>eleborgne</cp:lastModifiedBy>
  <dcterms:modified xsi:type="dcterms:W3CDTF">2012-07-05T11:10:57Z</dcterms:modified>
  <cp:revision>3</cp:revision>
  <dc:subject/>
  <dc:title>IM Goats action plan July 2012</dc:title>
</cp:coreProperties>
</file>